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72D-7536-46B1-A575-CB75EEA7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DEB-11DC-44BF-8CA0-6468670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F1D-1FF3-4761-A3B2-6752BEC0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B16-6859-47CD-8D56-14A47BA2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B10-41D1-4B17-A926-EC24A7C8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3E8-57C7-4E61-AEBE-0D632A4A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662-CF9C-4A16-AE29-605FEBA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A53-1834-46A4-B7CD-59874D50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ADA-BC1A-497A-827B-F45E2CF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245-A015-41BE-8A2C-0CE7B4E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C0D-81B3-4835-8613-7C068A8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ADC-4609-4DC7-B7F5-75816D8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6D1-9729-4872-8E2B-29AFDB11A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dy’s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Times New Roman"/>
              </a:rPr>
              <a:t>By: Cassandra Bl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a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1010047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smine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0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yan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P1010104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ndy’s Parents and Un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usa-1039796-01-a-01_01-01.jpg"/>
          <p:cNvPicPr/>
          <p:nvPr/>
        </p:nvPicPr>
        <p:blipFill>
          <a:blip r:embed="rId1"/>
          <a:stretch/>
        </p:blipFill>
        <p:spPr>
          <a:xfrm>
            <a:off x="2895480" y="1523880"/>
            <a:ext cx="3505320" cy="4800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st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OU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A1000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1:58:45Z</dcterms:created>
  <dc:creator>ccstudent</dc:creator>
  <dc:description/>
  <dc:language>en-US</dc:language>
  <cp:lastModifiedBy>ccstudent</cp:lastModifiedBy>
  <dcterms:modified xsi:type="dcterms:W3CDTF">2012-03-25T12:17:55Z</dcterms:modified>
  <cp:revision>2</cp:revision>
  <dc:subject/>
  <dc:title>Sandy’s Family</dc:title>
</cp:coreProperties>
</file>